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3446-17AA-4AD0-B122-BEFA0E83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E5FF-B865-4E1F-A2D7-06939A68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3CFB-1AAC-4F97-9C0A-F628D093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386C-2EBC-4967-A3E1-794044E9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AB9B-0AF2-4450-AEF7-97E79F90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ECB1-056A-4D11-8E5B-BC8E8186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29C1-144A-4AD6-9B09-06881F1B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99C2-33F5-42E3-B09A-0DFEED6F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5479-E1FB-4844-A9B9-CFB55990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6269-F9CE-4A88-86F1-9921846E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25F9-2482-48EA-9FE8-B442DB41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ADD0-5E3F-4727-8AFC-7CA0E00E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7BF0-3BEF-41A4-B7E2-8D7CFBDB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6C57-FBA6-4711-A6A0-9721293F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84E0-7F7C-4A17-A4DA-6512B0D8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CAE4-3D05-4337-9444-66D5925B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5C4D-4108-43CC-8431-3EAFA64C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8502-39A2-4F7E-8534-EC0A3955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729C-6F86-4C66-9BC6-10B5C399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F2110-3F06-4426-85F3-F28E77D1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954D-2B4C-4475-9355-86AC8E0B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8677C-8012-427C-87F3-8E4F2D4A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3D319-7DBA-4184-A19E-4038BFDF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E2134-46A7-4391-81C5-5BC11100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2B851-D149-4E4C-8719-716C8A57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8026B-C3E4-4641-83E1-201D27C9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D1B53-7852-4E5B-A9BB-2D0BC941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F740E-0E94-482F-B0CE-65A57C1F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CDFD6-DF28-45B9-BDD0-5F3DB1CE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05BCD-5F76-4942-B9F7-FD81036D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CAFFF-9AF6-4035-A6C3-9D81F8C3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8135-CB49-4F1F-8519-2924D092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C3DFC-2F68-4AD3-9977-7291B607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8712B-F204-4EF5-84AB-FEA06588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516D1-13FF-4B65-B793-532BDBD0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0270B-109B-4E23-8F7F-A308349C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123C5-506B-48E6-B17C-520DB1C6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E57B3-EF64-42E4-B31D-3A56D2E6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E5F80-5802-41A1-A8B1-F48E7BD5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3D986-E256-4ADE-AF2A-BC8B73D6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65514-1D60-4221-9A7A-77DD7669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20EE5-4141-4310-A0C8-C6B45BA7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6282-7867-4952-AF3F-47AE546E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4CF4E-8874-4A96-96BE-7259012A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80525-2E59-43BA-8013-2F355FFE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ED400-C62D-4ED4-B5ED-A8D9566E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3C45-27EC-497E-9EE9-6BB9F03D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D283-FCA6-407D-83FC-3753B1E4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FB306285-D9BE-464E-90DE-9423279E2AE2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C4467752-FA7A-4B59-A65A-FD682C7FFDFC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9B172F94-2C68-4ABC-8758-851815D0B3A7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96C486FF-7BA3-4C79-9E76-F69C29BEF919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1988640"/>
            <a:ext cx="10157040" cy="7923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73000"/>
          </a:bodyPr>
          <a:p>
            <a:pPr marL="221040" indent="-22104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O czym należy pamiętać wykonując resuscytację u kobiety ciężarnej?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98440" y="1844280"/>
            <a:ext cx="10220400" cy="3102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Należy pamiętać, by jej prawe biodro było uniesione wyżej aniżeli lewe.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52:2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